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11.gif" ContentType="image/gif"/>
  <Override PartName="/ppt/media/image28.jpeg" ContentType="image/jpeg"/>
  <Override PartName="/ppt/media/image20.png" ContentType="image/png"/>
  <Override PartName="/ppt/media/image7.jpeg" ContentType="image/jpeg"/>
  <Override PartName="/ppt/media/image8.jpeg" ContentType="image/jpeg"/>
  <Override PartName="/ppt/media/image29.jpeg" ContentType="image/jpeg"/>
  <Override PartName="/ppt/media/image21.gif" ContentType="image/gif"/>
  <Override PartName="/ppt/media/image14.png" ContentType="image/png"/>
  <Override PartName="/ppt/media/image10.jpeg" ContentType="image/jpeg"/>
  <Override PartName="/ppt/media/image1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.jpeg" ContentType="image/jpeg"/>
  <Override PartName="/ppt/media/chimes.wav" ContentType="audio/x-wav"/>
  <Override PartName="/ppt/media/image16.png" ContentType="image/png"/>
  <Override PartName="/ppt/media/image13.png" ContentType="image/png"/>
  <Override PartName="/ppt/media/image32.jpeg" ContentType="image/jpeg"/>
  <Override PartName="/ppt/media/image17.png" ContentType="image/png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9430-D32B-46C9-8C41-5EE4147D9A46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术中温热盐水纱布压迫止血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凝血酶原酶复合物的形成可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活化过程分为两条途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瀑布学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内源性：参与凝血的因子全部来自于血液。常因血液与带负电荷的异物表面接触而启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外源性：由来自于血液之外的组织因子暴露于血液而启动的凝血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组织因子是一种跨膜糖蛋白，存在于大多数组织细胞。生理情况下，直接与循环血液接触的血细胞和内皮细胞不表达组织因子，血管损伤时，暴露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凝血酶原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子—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Ⅱ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纤维蛋白原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子—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Ⅰ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可溶性的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纤维蛋白原先转变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可溶性的纤维蛋白单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后聚合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不溶性的纤维蛋白多聚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中可溶性的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纤维蛋白原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变成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溶性的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纤维蛋白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聚体，把血细胞及其他成分网罗在内，从而形成血凝块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凝血的启动阶段，只有少量的凝血酶产生，这部分凝血酶又可以反过去激活其他凝血因子，产生大量凝血酶，维持凝血过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-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也主要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，通过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结合而使之灭活。在正常安静情况下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-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-Ca2+-FⅦa   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凝血酶原酶复合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组织因子：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氨基酸残基组成的跨膜糖蛋白，血管外层的平滑肌细胞、成纤维细胞、足突状细胞恒定表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随时准备血管破裂以后的止血。而血管内与血浆直接接触的血管内皮细胞、单核细胞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巨噬细胞及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MN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不表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外伤、大手术、产科意外、恶性肿瘤或实质脏器坏死等释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◆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血管内皮细胞、单核细胞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巨噬细胞及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MN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被炎症介质活化产生和释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缺乏、异常症属常染色体显性遗传，包括数量缺乏和结构异常。临床上多发生深部静脉血栓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酶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属于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丝氨酸蛋白酶，最敏感的底物是纤维蛋白和纤维蛋白原，可使其分解为许多可溶性小肽，称为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通常不再发生凝固，而且还具有抗凝血作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酶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是血浆中活性最强的蛋白酶，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特异性较低，除降解纤维蛋白和纤维蛋白原外，还对凝血因子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等有降解作用。因此，当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亢进时，可因凝血因子的大量分解和</a:t>
            </a:r>
            <a:r>
              <a:rPr b="0" lang="en-US" sz="1400" spc="-1" strike="noStrike">
                <a:solidFill>
                  <a:srgbClr val="3333cc"/>
                </a:solidFill>
                <a:latin typeface="黑体"/>
                <a:ea typeface="黑体"/>
              </a:rPr>
              <a:t>FDP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的抗凝作用而有出血倾向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最终被单核巨噬细胞系统吞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DIC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概念分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致病因子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广泛微血栓形成，继发纤溶亢进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四大临床表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不是独立的疾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主要特征：凝血功能异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   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中心环节：大量凝血酶产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席汉氏综合症，是由一百多年前席汉氏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ehan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发现的一种综合症，当产后发生大出血，休克时间过长，就可造成脑垂体前叶功能减退的后遗症，表现为消溲，乏力，脱发，畏寒，闭经，乳房萎缩等，严重者可致死。临床上称之为席汉氏综合症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暴发型脑膜炎球菌败血症累及肾上腺，引起肾上腺皮质出血性坏死和急性肾上腺皮质功能衰竭，可有明显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Times New Roman"/>
              </a:rPr>
              <a:t>休克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症状和皮肤大片瘀斑等体征，称为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弗氏综合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aterhouse-Friderichsen Syndrome)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急性早幼粒细胞白血病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ute promyelocytic leukemia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是急性髓细胞白血病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M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的一种特殊类型，被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B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协作组定为急性髓细胞白血病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3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型。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造血组织的恶性疾病。其特点是骨髓及其他造血组织中有大量白血病细胞无限制地增生，并进入外周血液，而正常血细胞的制造被明显抑制，该病居年轻人恶性疾病中的首位，病因至今仍不完全清楚，病毒可能是主要的致病因子，但还有许多因素如放射、化学毒物（苯等）或药物、遗传素质等可能是致病的辅因子。根据白血病细胞不成熟的程度和白血病的自然病程，分为急性和慢性两大类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发病急，骨髓和外周血中主要是原始细胞，若不治疗病人常于半年内死亡。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特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①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早幼粒细胞浆内充满异常颗粒；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②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常伴有出血倾向发生率达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2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4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，严重者出现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③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的患者出现特异性染色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22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12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改变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④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对化疗敏感，但早期死亡率高，尤其在甲细胞毒细胞药物化疗时，约有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患者死于时期出血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⑤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维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酸能诱导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细胞分化成熟，砷剂能诱导其凋亡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⑥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持续缓解时间较长。以往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的治疗效果很差预后凶险，多因并发性弥散性血管内凝血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或原发性纤维蛋白溶解导致严重出血，而早期死亡。近年来随着对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细胞生物学的特性认识的不断提高和治疗方法改进，使治疗结果和预后得到了很大的改善，早期死亡率明显下降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见于长期大量应用糖皮质激素、反复感染或严重肝病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ECD4-9FB8-432C-8BA9-F3DC440DC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8A5E-A7A6-456E-AADC-57CDEB08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3FD5-E61D-4DBE-9F13-8EEEE455B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595D-79F3-4D6E-A691-88E51C7D0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22CA-B154-4E07-83D4-E4E914B0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7387-F725-4C27-87D9-56E7D714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C631-5361-422F-8B4C-1411D4E9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5155-0ACC-4781-8968-3A397D0B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CB52-CA9A-458C-9044-75166426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9623-DB24-4138-A889-38C8F008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3C6E-A0F4-46BE-BAA7-AC3556A7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9B30-E93F-4FF2-8304-8C0CF0EB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50DC-F788-442F-9616-8F5DC314BBB8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5C10-C1DA-46AC-AE48-3CBF85765B0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uaiyunqi.jbaobao.com/200706/396.s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4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13.png"/><Relationship Id="rId22" Type="http://schemas.openxmlformats.org/officeDocument/2006/relationships/slideLayout" Target="../slideLayouts/slideLayout3.xml"/><Relationship Id="rId2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907920"/>
            <a:ext cx="8605800" cy="52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八章 弥散性血管内凝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sseminated Intravascular Coagulation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河北联合大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病理生理学教研室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赵利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840B-37C0-4C16-A292-54E108400FE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0"/>
            <a:ext cx="1763640" cy="3357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4360" y="549360"/>
            <a:ext cx="504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血液的高凝状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1628640"/>
            <a:ext cx="2449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●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妊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2205000"/>
            <a:ext cx="70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和凝血因子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胎盘产生纤溶酶原激活物抑制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妊娠并发症的血流动力学异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4149720"/>
            <a:ext cx="338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●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酸中毒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4581360"/>
            <a:ext cx="540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管内皮损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因子活性增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肝素的抗凝作用减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聚集性加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E7CB-76B8-4A87-948B-2356AC5D9DDD}" type="slidenum">
              <a:t>10</a:t>
            </a:fld>
          </a:p>
        </p:txBody>
      </p:sp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0560" y="2204640"/>
            <a:ext cx="8713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休克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（尤其是感染性休克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血流缓慢或停滞，血细胞聚集性增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酸中毒致毛细血管通透性增大，血浆外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组织细胞、血管内皮细胞缺氧性损伤，凝血易启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肝、肾低灌流状态使促凝物质清除障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酸中毒致血小板和凝血因子活性增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435640" y="333360"/>
            <a:ext cx="3384360" cy="2443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9640" y="549360"/>
            <a:ext cx="42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微循环障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BC7A-463A-4099-8B39-7FA147F7BF3F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5473440" cy="89712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四  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发病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ShockwaveFlash1"/>
          <p:cNvGraphicFramePr/>
          <p:nvPr/>
        </p:nvGraphicFramePr>
        <p:xfrm>
          <a:off x="1042920" y="1700280"/>
          <a:ext cx="754236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00280"/>
                    <a:ext cx="7542360" cy="41907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763640" y="602136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凝血和抗凝血平衡破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333B-E543-4DD4-BDBA-7813BE83B619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763560" y="228600"/>
            <a:ext cx="7999560" cy="6327000"/>
            <a:chOff x="763560" y="228600"/>
            <a:chExt cx="7999560" cy="6327000"/>
          </a:xfrm>
        </p:grpSpPr>
        <p:grpSp>
          <p:nvGrpSpPr>
            <p:cNvPr id="91" name=""/>
            <p:cNvGrpSpPr/>
            <p:nvPr/>
          </p:nvGrpSpPr>
          <p:grpSpPr>
            <a:xfrm>
              <a:off x="763560" y="228600"/>
              <a:ext cx="7389360" cy="6327000"/>
              <a:chOff x="763560" y="228600"/>
              <a:chExt cx="7389360" cy="632700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2133360" y="3646440"/>
                <a:ext cx="685440" cy="685800"/>
                <a:chOff x="2133360" y="3646440"/>
                <a:chExt cx="685440" cy="685800"/>
              </a:xfrm>
            </p:grpSpPr>
            <p:pic>
              <p:nvPicPr>
                <p:cNvPr id="93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133360" y="364644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" name=""/>
                <p:cNvSpPr/>
                <p:nvPr/>
              </p:nvSpPr>
              <p:spPr>
                <a:xfrm>
                  <a:off x="2263320" y="372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895480" y="3646440"/>
                <a:ext cx="2361240" cy="1083960"/>
                <a:chOff x="2895480" y="3646440"/>
                <a:chExt cx="2361240" cy="1083960"/>
              </a:xfrm>
            </p:grpSpPr>
            <p:grpSp>
              <p:nvGrpSpPr>
                <p:cNvPr id="96" name=""/>
                <p:cNvGrpSpPr/>
                <p:nvPr/>
              </p:nvGrpSpPr>
              <p:grpSpPr>
                <a:xfrm>
                  <a:off x="2895480" y="3875040"/>
                  <a:ext cx="1447200" cy="855360"/>
                  <a:chOff x="2895480" y="3875040"/>
                  <a:chExt cx="1447200" cy="855360"/>
                </a:xfrm>
              </p:grpSpPr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875040"/>
                    <a:ext cx="14472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8" name=""/>
                  <p:cNvSpPr/>
                  <p:nvPr/>
                </p:nvSpPr>
                <p:spPr>
                  <a:xfrm>
                    <a:off x="3276000" y="4078080"/>
                    <a:ext cx="837720" cy="4597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LT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" name=""/>
                <p:cNvGrpSpPr/>
                <p:nvPr/>
              </p:nvGrpSpPr>
              <p:grpSpPr>
                <a:xfrm>
                  <a:off x="3961800" y="4103640"/>
                  <a:ext cx="1294920" cy="533160"/>
                  <a:chOff x="3961800" y="4103640"/>
                  <a:chExt cx="1294920" cy="533160"/>
                </a:xfrm>
              </p:grpSpPr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1800" y="4103640"/>
                    <a:ext cx="12949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" name=""/>
                  <p:cNvSpPr/>
                  <p:nvPr/>
                </p:nvSpPr>
                <p:spPr>
                  <a:xfrm>
                    <a:off x="4344120" y="4103640"/>
                    <a:ext cx="535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" name=""/>
                <p:cNvGrpSpPr/>
                <p:nvPr/>
              </p:nvGrpSpPr>
              <p:grpSpPr>
                <a:xfrm>
                  <a:off x="3885480" y="3646440"/>
                  <a:ext cx="685440" cy="685800"/>
                  <a:chOff x="3885480" y="3646440"/>
                  <a:chExt cx="685440" cy="685800"/>
                </a:xfrm>
              </p:grpSpPr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5480" y="3646440"/>
                    <a:ext cx="685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" name=""/>
                  <p:cNvSpPr/>
                  <p:nvPr/>
                </p:nvSpPr>
                <p:spPr>
                  <a:xfrm>
                    <a:off x="3963240" y="3722760"/>
                    <a:ext cx="535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" name=""/>
              <p:cNvGrpSpPr/>
              <p:nvPr/>
            </p:nvGrpSpPr>
            <p:grpSpPr>
              <a:xfrm>
                <a:off x="6248160" y="4027320"/>
                <a:ext cx="1294920" cy="536040"/>
                <a:chOff x="6248160" y="4027320"/>
                <a:chExt cx="1294920" cy="536040"/>
              </a:xfrm>
            </p:grpSpPr>
            <p:pic>
              <p:nvPicPr>
                <p:cNvPr id="10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248160" y="4027320"/>
                  <a:ext cx="1294920" cy="533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7" name=""/>
                <p:cNvSpPr/>
                <p:nvPr/>
              </p:nvSpPr>
              <p:spPr>
                <a:xfrm>
                  <a:off x="6706800" y="410364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4038480" y="4941720"/>
                <a:ext cx="1336320" cy="868320"/>
                <a:chOff x="4038480" y="4941720"/>
                <a:chExt cx="1336320" cy="868320"/>
              </a:xfrm>
            </p:grpSpPr>
            <p:pic>
              <p:nvPicPr>
                <p:cNvPr id="10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038480" y="4941720"/>
                  <a:ext cx="133632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" name=""/>
                <p:cNvSpPr/>
                <p:nvPr/>
              </p:nvSpPr>
              <p:spPr>
                <a:xfrm>
                  <a:off x="4115880" y="5167080"/>
                  <a:ext cx="118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Thromb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763560" y="4941720"/>
                <a:ext cx="1463760" cy="925560"/>
                <a:chOff x="763560" y="4941720"/>
                <a:chExt cx="1463760" cy="925560"/>
              </a:xfrm>
            </p:grpSpPr>
            <p:pic>
              <p:nvPicPr>
                <p:cNvPr id="11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9400" y="4941720"/>
                  <a:ext cx="1402920" cy="925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>
                  <a:off x="763560" y="5219640"/>
                  <a:ext cx="1463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rothromb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1676160" y="6073560"/>
                <a:ext cx="1904760" cy="482040"/>
                <a:chOff x="1676160" y="6073560"/>
                <a:chExt cx="1904760" cy="482040"/>
              </a:xfrm>
            </p:grpSpPr>
            <p:pic>
              <p:nvPicPr>
                <p:cNvPr id="11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676160" y="6073560"/>
                  <a:ext cx="1904760" cy="46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>
                  <a:off x="1907640" y="6095880"/>
                  <a:ext cx="1520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ibrinogen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5714640" y="6073560"/>
                <a:ext cx="1904760" cy="482040"/>
                <a:chOff x="5714640" y="6073560"/>
                <a:chExt cx="1904760" cy="482040"/>
              </a:xfrm>
            </p:grpSpPr>
            <p:pic>
              <p:nvPicPr>
                <p:cNvPr id="11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714640" y="6073560"/>
                  <a:ext cx="1904760" cy="46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" name=""/>
                <p:cNvSpPr/>
                <p:nvPr/>
              </p:nvSpPr>
              <p:spPr>
                <a:xfrm>
                  <a:off x="6248160" y="6095880"/>
                  <a:ext cx="927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ibrin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2895480" y="3570120"/>
                <a:ext cx="914040" cy="228600"/>
              </a:xfrm>
              <a:custGeom>
                <a:avLst/>
                <a:gdLst/>
                <a:ahLst/>
                <a:rect l="l" t="t" r="r" b="b"/>
                <a:pathLst>
                  <a:path w="768" h="248">
                    <a:moveTo>
                      <a:pt x="0" y="248"/>
                    </a:moveTo>
                    <a:cubicBezTo>
                      <a:pt x="80" y="132"/>
                      <a:pt x="160" y="16"/>
                      <a:pt x="288" y="8"/>
                    </a:cubicBezTo>
                    <a:cubicBezTo>
                      <a:pt x="416" y="0"/>
                      <a:pt x="704" y="176"/>
                      <a:pt x="768" y="2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5333400" y="4332240"/>
                <a:ext cx="837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8280" y="5398920"/>
                <a:ext cx="1371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971440" y="4865400"/>
                <a:ext cx="304560" cy="457200"/>
              </a:xfrm>
              <a:custGeom>
                <a:avLst/>
                <a:gdLst/>
                <a:ahLst/>
                <a:rect l="l" t="t" r="r" b="b"/>
                <a:pathLst>
                  <a:path w="168" h="384">
                    <a:moveTo>
                      <a:pt x="168" y="0"/>
                    </a:moveTo>
                    <a:cubicBezTo>
                      <a:pt x="108" y="64"/>
                      <a:pt x="48" y="128"/>
                      <a:pt x="24" y="192"/>
                    </a:cubicBezTo>
                    <a:cubicBezTo>
                      <a:pt x="0" y="256"/>
                      <a:pt x="12" y="320"/>
                      <a:pt x="24" y="38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809880" y="6302160"/>
                <a:ext cx="159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647960" y="5823000"/>
                <a:ext cx="0" cy="403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9880" y="2225520"/>
                <a:ext cx="2361240" cy="1083960"/>
                <a:chOff x="3809880" y="2225520"/>
                <a:chExt cx="2361240" cy="1083960"/>
              </a:xfrm>
            </p:grpSpPr>
            <p:grpSp>
              <p:nvGrpSpPr>
                <p:cNvPr id="127" name=""/>
                <p:cNvGrpSpPr/>
                <p:nvPr/>
              </p:nvGrpSpPr>
              <p:grpSpPr>
                <a:xfrm>
                  <a:off x="3809880" y="2454120"/>
                  <a:ext cx="1447200" cy="855360"/>
                  <a:chOff x="3809880" y="2454120"/>
                  <a:chExt cx="1447200" cy="855360"/>
                </a:xfrm>
              </p:grpSpPr>
              <p:pic>
                <p:nvPicPr>
                  <p:cNvPr id="1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9880" y="2454120"/>
                    <a:ext cx="14472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" name=""/>
                  <p:cNvSpPr/>
                  <p:nvPr/>
                </p:nvSpPr>
                <p:spPr>
                  <a:xfrm>
                    <a:off x="4190400" y="2657160"/>
                    <a:ext cx="837720" cy="4597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LT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4800240" y="2225520"/>
                  <a:ext cx="685440" cy="685800"/>
                  <a:chOff x="4800240" y="2225520"/>
                  <a:chExt cx="685440" cy="685800"/>
                </a:xfrm>
              </p:grpSpPr>
              <p:pic>
                <p:nvPicPr>
                  <p:cNvPr id="13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0240" y="2225520"/>
                    <a:ext cx="685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2" name=""/>
                  <p:cNvSpPr/>
                  <p:nvPr/>
                </p:nvSpPr>
                <p:spPr>
                  <a:xfrm>
                    <a:off x="4801680" y="2301480"/>
                    <a:ext cx="6379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X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4876560" y="2682720"/>
                  <a:ext cx="1294560" cy="533160"/>
                  <a:chOff x="4876560" y="2682720"/>
                  <a:chExt cx="1294560" cy="533160"/>
                </a:xfrm>
              </p:grpSpPr>
              <p:pic>
                <p:nvPicPr>
                  <p:cNvPr id="1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6560" y="2682720"/>
                    <a:ext cx="12945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" name=""/>
                  <p:cNvSpPr/>
                  <p:nvPr/>
                </p:nvSpPr>
                <p:spPr>
                  <a:xfrm>
                    <a:off x="5105520" y="2682720"/>
                    <a:ext cx="842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III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6" name=""/>
              <p:cNvGrpSpPr/>
              <p:nvPr/>
            </p:nvGrpSpPr>
            <p:grpSpPr>
              <a:xfrm>
                <a:off x="6857640" y="2700360"/>
                <a:ext cx="1295280" cy="533160"/>
                <a:chOff x="6857640" y="2700360"/>
                <a:chExt cx="1295280" cy="533160"/>
              </a:xfrm>
            </p:grpSpPr>
            <p:pic>
              <p:nvPicPr>
                <p:cNvPr id="13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857640" y="2700360"/>
                  <a:ext cx="1295280" cy="533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" name=""/>
                <p:cNvSpPr/>
                <p:nvPr/>
              </p:nvSpPr>
              <p:spPr>
                <a:xfrm>
                  <a:off x="7087320" y="2700360"/>
                  <a:ext cx="842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II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" name=""/>
              <p:cNvSpPr/>
              <p:nvPr/>
            </p:nvSpPr>
            <p:spPr>
              <a:xfrm flipH="1">
                <a:off x="6247800" y="292896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6324480" y="1633320"/>
                <a:ext cx="685440" cy="685800"/>
                <a:chOff x="6324480" y="1633320"/>
                <a:chExt cx="685440" cy="685800"/>
              </a:xfrm>
            </p:grpSpPr>
            <p:pic>
              <p:nvPicPr>
                <p:cNvPr id="14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324480" y="163332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" name=""/>
                <p:cNvSpPr/>
                <p:nvPr/>
              </p:nvSpPr>
              <p:spPr>
                <a:xfrm>
                  <a:off x="6429240" y="1785600"/>
                  <a:ext cx="502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 flipH="1">
                <a:off x="5562360" y="2166840"/>
                <a:ext cx="68544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5486040" y="1023840"/>
                <a:ext cx="685440" cy="685800"/>
                <a:chOff x="5486040" y="1023840"/>
                <a:chExt cx="685440" cy="685800"/>
              </a:xfrm>
            </p:grpSpPr>
            <p:pic>
              <p:nvPicPr>
                <p:cNvPr id="14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5486040" y="102384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" name=""/>
                <p:cNvSpPr/>
                <p:nvPr/>
              </p:nvSpPr>
              <p:spPr>
                <a:xfrm>
                  <a:off x="5531400" y="1176120"/>
                  <a:ext cx="637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"/>
              <p:cNvSpPr/>
              <p:nvPr/>
            </p:nvSpPr>
            <p:spPr>
              <a:xfrm>
                <a:off x="5943240" y="1785960"/>
                <a:ext cx="15228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20147400">
                <a:off x="3301200" y="3111480"/>
                <a:ext cx="521640" cy="339480"/>
              </a:xfrm>
              <a:custGeom>
                <a:avLst/>
                <a:gdLst/>
                <a:ahLst/>
                <a:rect l="l" t="t" r="r" b="b"/>
                <a:pathLst>
                  <a:path w="1224" h="512">
                    <a:moveTo>
                      <a:pt x="0" y="32"/>
                    </a:moveTo>
                    <a:cubicBezTo>
                      <a:pt x="332" y="16"/>
                      <a:pt x="664" y="0"/>
                      <a:pt x="864" y="80"/>
                    </a:cubicBezTo>
                    <a:cubicBezTo>
                      <a:pt x="1064" y="160"/>
                      <a:pt x="1224" y="472"/>
                      <a:pt x="1200" y="51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2361960" y="304560"/>
                <a:ext cx="685440" cy="685800"/>
                <a:chOff x="2361960" y="304560"/>
                <a:chExt cx="685440" cy="685800"/>
              </a:xfrm>
            </p:grpSpPr>
            <p:pic>
              <p:nvPicPr>
                <p:cNvPr id="15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361960" y="30456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" name=""/>
                <p:cNvSpPr/>
                <p:nvPr/>
              </p:nvSpPr>
              <p:spPr>
                <a:xfrm>
                  <a:off x="2407320" y="456840"/>
                  <a:ext cx="604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4420440" y="304560"/>
                <a:ext cx="741240" cy="685800"/>
                <a:chOff x="4420440" y="304560"/>
                <a:chExt cx="741240" cy="685800"/>
              </a:xfrm>
            </p:grpSpPr>
            <p:pic>
              <p:nvPicPr>
                <p:cNvPr id="15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4476240" y="30456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" name=""/>
                <p:cNvSpPr/>
                <p:nvPr/>
              </p:nvSpPr>
              <p:spPr>
                <a:xfrm>
                  <a:off x="4420440" y="456840"/>
                  <a:ext cx="740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657240" y="1066680"/>
                <a:ext cx="685440" cy="685800"/>
                <a:chOff x="3657240" y="1066680"/>
                <a:chExt cx="685440" cy="685800"/>
              </a:xfrm>
            </p:grpSpPr>
            <p:pic>
              <p:nvPicPr>
                <p:cNvPr id="15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657240" y="106668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" name=""/>
                <p:cNvSpPr/>
                <p:nvPr/>
              </p:nvSpPr>
              <p:spPr>
                <a:xfrm>
                  <a:off x="3761640" y="1218960"/>
                  <a:ext cx="502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4419360" y="144756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800240" y="1066680"/>
                <a:ext cx="0" cy="326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200040" y="685800"/>
                <a:ext cx="114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61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124080" y="228600"/>
                <a:ext cx="1142640" cy="387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2" name=""/>
            <p:cNvSpPr/>
            <p:nvPr/>
          </p:nvSpPr>
          <p:spPr>
            <a:xfrm>
              <a:off x="8229600" y="1523880"/>
              <a:ext cx="533520" cy="308016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内源性凝血系统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52280" y="1676520"/>
            <a:ext cx="5943600" cy="3080160"/>
            <a:chOff x="152280" y="1676520"/>
            <a:chExt cx="5943600" cy="3080160"/>
          </a:xfrm>
        </p:grpSpPr>
        <p:grpSp>
          <p:nvGrpSpPr>
            <p:cNvPr id="164" name=""/>
            <p:cNvGrpSpPr/>
            <p:nvPr/>
          </p:nvGrpSpPr>
          <p:grpSpPr>
            <a:xfrm>
              <a:off x="838080" y="1981080"/>
              <a:ext cx="5257800" cy="1787400"/>
              <a:chOff x="838080" y="1981080"/>
              <a:chExt cx="5257800" cy="178740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838080" y="2546280"/>
                <a:ext cx="1523880" cy="1222200"/>
                <a:chOff x="838080" y="2546280"/>
                <a:chExt cx="1523880" cy="122220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838080" y="2546280"/>
                  <a:ext cx="1222200" cy="1222200"/>
                  <a:chOff x="838080" y="2546280"/>
                  <a:chExt cx="1222200" cy="1222200"/>
                </a:xfrm>
              </p:grpSpPr>
              <p:pic>
                <p:nvPicPr>
                  <p:cNvPr id="16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38080" y="2546280"/>
                    <a:ext cx="122220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8" name=""/>
                  <p:cNvSpPr/>
                  <p:nvPr/>
                </p:nvSpPr>
                <p:spPr>
                  <a:xfrm>
                    <a:off x="1110960" y="2850840"/>
                    <a:ext cx="71748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F</a:t>
                    </a:r>
                    <a:endParaRPr b="0" lang="en-US" sz="3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1676160" y="3079440"/>
                  <a:ext cx="685800" cy="685440"/>
                  <a:chOff x="1676160" y="3079440"/>
                  <a:chExt cx="685800" cy="685440"/>
                </a:xfrm>
              </p:grpSpPr>
              <p:pic>
                <p:nvPicPr>
                  <p:cNvPr id="17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676160" y="3079440"/>
                    <a:ext cx="685800" cy="68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1" name=""/>
                  <p:cNvSpPr/>
                  <p:nvPr/>
                </p:nvSpPr>
                <p:spPr>
                  <a:xfrm>
                    <a:off x="1676160" y="3222000"/>
                    <a:ext cx="6858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IIa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2" name=""/>
              <p:cNvSpPr/>
              <p:nvPr/>
            </p:nvSpPr>
            <p:spPr>
              <a:xfrm>
                <a:off x="2438280" y="3308400"/>
                <a:ext cx="914400" cy="380880"/>
              </a:xfrm>
              <a:custGeom>
                <a:avLst/>
                <a:gdLst/>
                <a:ahLst/>
                <a:rect l="l" t="t" r="r" b="b"/>
                <a:pathLst>
                  <a:path w="1224" h="512">
                    <a:moveTo>
                      <a:pt x="0" y="32"/>
                    </a:moveTo>
                    <a:cubicBezTo>
                      <a:pt x="332" y="16"/>
                      <a:pt x="664" y="0"/>
                      <a:pt x="864" y="80"/>
                    </a:cubicBezTo>
                    <a:cubicBezTo>
                      <a:pt x="1064" y="160"/>
                      <a:pt x="1224" y="472"/>
                      <a:pt x="1200" y="51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057400" y="1981080"/>
                <a:ext cx="4038480" cy="892080"/>
              </a:xfrm>
              <a:custGeom>
                <a:avLst/>
                <a:gdLst/>
                <a:ahLst/>
                <a:rect l="l" t="t" r="r" b="b"/>
                <a:pathLst>
                  <a:path w="2640" h="640">
                    <a:moveTo>
                      <a:pt x="0" y="640"/>
                    </a:moveTo>
                    <a:cubicBezTo>
                      <a:pt x="764" y="384"/>
                      <a:pt x="1528" y="128"/>
                      <a:pt x="1968" y="64"/>
                    </a:cubicBezTo>
                    <a:cubicBezTo>
                      <a:pt x="2408" y="0"/>
                      <a:pt x="2524" y="128"/>
                      <a:pt x="2640" y="25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152280" y="1676520"/>
              <a:ext cx="533520" cy="308016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外源性凝血系统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651840" y="436572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32560" y="364500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88560" y="299736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4F09-2B27-4FA7-BDFE-3E554FD9974F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  <a:ea typeface="华文新魏"/>
              </a:rPr>
              <a:t>凝血的三个阶段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原酶复合物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宋体"/>
              </a:rPr>
              <a:t>FⅩa-FⅤa-Ca</a:t>
            </a:r>
            <a:r>
              <a:rPr b="1" lang="en-US" sz="3200" spc="-1" strike="noStrike" u="sng" baseline="18000">
                <a:solidFill>
                  <a:srgbClr val="ffff00"/>
                </a:solidFill>
                <a:uFillTx/>
                <a:latin typeface="宋体"/>
              </a:rPr>
              <a:t>2+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宋体"/>
              </a:rPr>
              <a:t>-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宋体"/>
              </a:rPr>
              <a:t>磷脂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原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I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Ia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纤维蛋白原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纤维蛋白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a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84720" y="256536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08720" y="3645000"/>
            <a:ext cx="228600" cy="753840"/>
          </a:xfrm>
          <a:prstGeom prst="downArrow">
            <a:avLst>
              <a:gd name="adj1" fmla="val 50000"/>
              <a:gd name="adj2" fmla="val 8244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3213000"/>
            <a:ext cx="1225440" cy="144720"/>
          </a:xfrm>
          <a:prstGeom prst="rightArrow">
            <a:avLst>
              <a:gd name="adj1" fmla="val 50000"/>
              <a:gd name="adj2" fmla="val 21169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19640" y="450864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1920" y="5734080"/>
            <a:ext cx="3192120" cy="825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瀑布式的酶促反应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21B1-36D6-460B-AD60-9FD8C9420914}" type="slidenum">
              <a:t>14</a:t>
            </a:fld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2021040"/>
            <a:ext cx="9144000" cy="48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血管基底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胶原暴露，启动内凝系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损伤的血管内皮细胞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释放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F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启动外凝系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暴露的胶原促进血小板黏附、聚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④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使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TM/PC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HS/AT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-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抗凝作用减弱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⑤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血管内皮细胞产生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减少，纤溶活性降低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920" y="907920"/>
            <a:ext cx="8461080" cy="5875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血管内皮细胞损伤，凝血系统强烈激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EA43-FDB4-409B-B165-4ECB03D4EDFF}" type="slidenum">
              <a:t>15</a:t>
            </a:fld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755640" y="1916280"/>
            <a:ext cx="8028000" cy="18543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◆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损伤组织细胞释放大量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◆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活化的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单核细胞及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PMN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释放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549360"/>
            <a:ext cx="7704000" cy="642600"/>
          </a:xfrm>
          <a:prstGeom prst="rect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严重组织损伤，凝血系统强烈激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56000" y="4941720"/>
            <a:ext cx="367164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外凝系统启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84720" y="3789360"/>
            <a:ext cx="287280" cy="1224000"/>
          </a:xfrm>
          <a:prstGeom prst="downArrow">
            <a:avLst>
              <a:gd name="adj1" fmla="val 50000"/>
              <a:gd name="adj2" fmla="val 106516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D3BF-17A6-4E79-9B8D-5D42A27B237D}" type="slidenum">
              <a:t>16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4000" y="1773360"/>
            <a:ext cx="73436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(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抗凝血酶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如：败血症时</a:t>
            </a:r>
            <a:r>
              <a:rPr b="1" lang="en-US" sz="3600" spc="-1" strike="noStrike">
                <a:solidFill>
                  <a:srgbClr val="00ff00"/>
                </a:solidFill>
                <a:latin typeface="宋体"/>
              </a:rPr>
              <a:t>AT</a:t>
            </a: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-Ⅲ</a:t>
            </a: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明显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中和凝血酶被消耗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被活化中性粒细胞释放的弹性酶降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合成不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506520"/>
            <a:ext cx="504036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抗凝系统功能抑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8F4F-2148-4600-9AA4-10B7BAE38DD4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620720" y="4048920"/>
            <a:ext cx="4923000" cy="1285200"/>
          </a:xfrm>
          <a:prstGeom prst="cube">
            <a:avLst>
              <a:gd name="adj" fmla="val 64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血管内皮细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2000" y="4292640"/>
            <a:ext cx="1657440" cy="50472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(2)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血栓调节蛋白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蛋白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系统抑制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29080" y="155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9236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激活的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APC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60720" y="1989000"/>
            <a:ext cx="0" cy="8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00360" y="2421000"/>
            <a:ext cx="289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20720" y="21798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08720" y="270828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灭活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FⅤa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FⅧ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3440" y="2997360"/>
            <a:ext cx="1008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064120" y="3068280"/>
            <a:ext cx="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41800" y="378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060720" y="3213000"/>
            <a:ext cx="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89440" y="32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33800" y="31399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62200" y="422100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血栓调节蛋白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63640" y="4149720"/>
            <a:ext cx="2416320" cy="71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11280" y="37162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68360" y="3716280"/>
            <a:ext cx="1582920" cy="43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4CA3-5CBB-49BA-AD73-1BB089358E95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1148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765000"/>
            <a:ext cx="8137440" cy="752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血管舒缩性和血液流动性的改变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1844640"/>
            <a:ext cx="85914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能合成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PG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NO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等扩血管物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◆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可产生缩血管物质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内皮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通过调节血管的舒缩功能，保持血液正常流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24000" y="4292640"/>
            <a:ext cx="381636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原发病及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触发因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5229360"/>
            <a:ext cx="655164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血管舒缩调节功能紊乱，血液黏度增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16360" y="6093000"/>
            <a:ext cx="216036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微血栓形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51280" y="479736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5661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428B-07DA-46FF-BA1D-DF25818B6F0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6360" y="1268280"/>
            <a:ext cx="792000" cy="382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822240"/>
            <a:ext cx="3600360" cy="521460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概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发生原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诱发因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发生机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临床表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分期与分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D83E-5428-4F90-9930-497183853C4D}" type="slidenum">
              <a:t>2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55640" y="692280"/>
            <a:ext cx="460836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继发性纤溶激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1773360"/>
            <a:ext cx="8280360" cy="194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纤溶系统继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凝血激活之后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被激活，且纤溶活性呈进行性增强的状态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3640" y="4724280"/>
            <a:ext cx="5472000" cy="936720"/>
          </a:xfrm>
          <a:prstGeom prst="wedgeRoundRectCallout">
            <a:avLst>
              <a:gd name="adj1" fmla="val -44981"/>
              <a:gd name="adj2" fmla="val -158643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继发性纤溶亢进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C90A-02A8-4705-9CF6-714E0C6B35CD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4149360"/>
            <a:ext cx="46432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纤溶酶原激活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纤溶酶原     纤溶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763640" y="4653000"/>
            <a:ext cx="990720" cy="1008000"/>
            <a:chOff x="1763640" y="4653000"/>
            <a:chExt cx="990720" cy="1008000"/>
          </a:xfrm>
        </p:grpSpPr>
        <p:sp>
          <p:nvSpPr>
            <p:cNvPr id="225" name=""/>
            <p:cNvSpPr/>
            <p:nvPr/>
          </p:nvSpPr>
          <p:spPr>
            <a:xfrm>
              <a:off x="1763640" y="5661000"/>
              <a:ext cx="99072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66920" y="4653000"/>
              <a:ext cx="0" cy="7920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24000" y="620640"/>
            <a:ext cx="8496000" cy="20131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凝血酶、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XIa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XII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可激活纤溶酶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纤维蛋白、缓激肽等促进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分泌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-P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组织（卵巢、子宫、肾上腺）中的纤溶酶原因缺氧性损伤而激活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11280" y="5300640"/>
            <a:ext cx="1729080" cy="719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67280" y="3645000"/>
            <a:ext cx="4897440" cy="274428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纤溶酶作用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溶解微血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水解多种凝血因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水解纤维蛋白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原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生成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D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5F51-89E5-4A44-97BF-7E577E089754}" type="slidenum">
              <a:t>21</a:t>
            </a:fld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39640" y="234936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1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328464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6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530064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8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4292640"/>
            <a:ext cx="835344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肿瘤坏死因子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umor necrosis factor, TNF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9640" y="836640"/>
            <a:ext cx="460872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细胞因子的作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47AE-56F1-446D-B05B-C16311F3221F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4681440" cy="8967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五 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临床表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060640"/>
            <a:ext cx="309564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一）出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03640" y="1773360"/>
            <a:ext cx="1873440" cy="3272760"/>
          </a:xfrm>
          <a:prstGeom prst="rect">
            <a:avLst/>
          </a:prstGeom>
          <a:solidFill>
            <a:srgbClr val="ff99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最常见最早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突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多部位难止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20160" y="3213000"/>
            <a:ext cx="10951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0A45-EAEC-4596-9469-825353A9F2C8}" type="slidenum">
              <a:t>23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572000" y="1341360"/>
            <a:ext cx="4032360" cy="33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表现形式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皮下淤斑、呕血、黑便、 咯血、牙龈出血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鼻出血、泌尿生殖道出血、颅内出血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注射部位渗血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202280" cy="480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F218-1DFF-48CE-ADA9-D05F99FB8308}" type="slidenum">
              <a:t>24</a:t>
            </a:fld>
          </a:p>
        </p:txBody>
      </p:sp>
    </p:spTree>
  </p:cSld>
  <p:transition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021200" y="3211560"/>
            <a:ext cx="5122800" cy="3646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2914560" cy="21528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95280" y="4705200"/>
            <a:ext cx="2914560" cy="21528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5148360" y="476280"/>
            <a:ext cx="3995640" cy="2809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179280" y="0"/>
            <a:ext cx="3492720" cy="2421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3276720" y="1557360"/>
            <a:ext cx="1908000" cy="164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403A-C82B-4883-8F4C-C75F83449D9C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95280" y="1700280"/>
            <a:ext cx="7272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宋体"/>
              </a:rPr>
              <a:t>(1)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凝血因子及血小板数量减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404640"/>
            <a:ext cx="446400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出血的机制：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3716280"/>
            <a:ext cx="7993080" cy="206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Ⅻ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激活激肽系统，进而激活纤溶酶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缺氧、应激促进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释放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t-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凝血酶激活纤溶酶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637000"/>
            <a:ext cx="5040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宋体"/>
              </a:rPr>
              <a:t>(2)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继发性纤溶亢进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AED1-09C8-4B48-97A0-E56F493D5736}" type="slidenum">
              <a:t>26</a:t>
            </a:fld>
          </a:p>
        </p:txBody>
      </p:sp>
    </p:spTree>
  </p:cSld>
  <p:transition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24000" y="1052640"/>
            <a:ext cx="853416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纤溶酶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g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X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Y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A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凝血酶</a:t>
            </a:r>
            <a:r>
              <a:rPr b="1" lang="zh-CN" sz="3600" spc="-1" strike="noStrike">
                <a:solidFill>
                  <a:srgbClr val="99cc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纤溶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X’ Y’ D’ 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二聚体、多聚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19280" y="2981160"/>
            <a:ext cx="1752480" cy="18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33880" y="2981160"/>
            <a:ext cx="533520" cy="1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53200" y="2981160"/>
            <a:ext cx="761760" cy="1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47640" y="5877000"/>
            <a:ext cx="1295640" cy="1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924360" y="5877000"/>
            <a:ext cx="1584360" cy="1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057560" y="2355480"/>
            <a:ext cx="533520" cy="3920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53200" y="3294000"/>
            <a:ext cx="914400" cy="2350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05080" y="2981160"/>
            <a:ext cx="228600" cy="392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0920" y="404640"/>
            <a:ext cx="8137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(3)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纤维蛋白（原）降解产物的作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8291-34F4-4512-A2C0-5FC02406C50E}" type="slidenum">
              <a:t>27</a:t>
            </a:fld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28600" y="304920"/>
            <a:ext cx="868680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纤维蛋白（原）降解产物（</a:t>
            </a:r>
            <a:r>
              <a:rPr b="1" lang="en-US" sz="3600" spc="-1" strike="noStrike">
                <a:solidFill>
                  <a:srgbClr val="00ff00"/>
                </a:solidFill>
                <a:latin typeface="黑体"/>
                <a:ea typeface="黑体"/>
              </a:rPr>
              <a:t>FDP</a:t>
            </a:r>
            <a:r>
              <a:rPr b="1" lang="en-US" sz="3600" spc="-1" strike="noStrike">
                <a:solidFill>
                  <a:srgbClr val="00ff00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：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在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纤溶酶的作用下，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</a:rPr>
              <a:t>纤维蛋白原和纤维蛋白被水解成分子量不等的片段，这些片段以单体、二聚体和多聚体的形式存在于血液中，统称为</a:t>
            </a:r>
            <a:r>
              <a:rPr b="1" lang="en-US" sz="4000" spc="-1" strike="noStrike">
                <a:solidFill>
                  <a:srgbClr val="00ff00"/>
                </a:solidFill>
                <a:latin typeface="黑体"/>
                <a:ea typeface="黑体"/>
              </a:rPr>
              <a:t>FDP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EE32-1308-40E8-B1F5-C83134CE6835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403280" y="620640"/>
            <a:ext cx="705636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FDP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的作用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抑制血小板黏附、聚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抗凝血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抑制纤维蛋白单体聚合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増强微血管壁通透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08240" y="5589720"/>
            <a:ext cx="227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三抗一加强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E1A2-C490-4D8E-978F-155197E01757}" type="slidenum">
              <a:t>29</a:t>
            </a:fld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7993080" cy="42494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C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在多种致病因素作用下，凝血因子和血小板被激活，大量促凝物质入血，微循环中广泛微血栓形成，同时或继发纤维蛋白溶解亢进，出现以出血、器官功能障碍、休克和贫血为主要临床表现的病理过程。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1916280"/>
            <a:ext cx="2209680" cy="5760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3213000"/>
            <a:ext cx="6842160" cy="13924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5157720"/>
            <a:ext cx="1800360" cy="9144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404640"/>
            <a:ext cx="2808000" cy="7034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  概念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D21C-2DE3-43C1-94AC-9BF684EA371D}" type="slidenum">
              <a:t>3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250920" y="2421000"/>
            <a:ext cx="9144000" cy="3157560"/>
            <a:chOff x="250920" y="2421000"/>
            <a:chExt cx="9144000" cy="3157560"/>
          </a:xfrm>
        </p:grpSpPr>
        <p:sp>
          <p:nvSpPr>
            <p:cNvPr id="265" name=""/>
            <p:cNvSpPr/>
            <p:nvPr/>
          </p:nvSpPr>
          <p:spPr>
            <a:xfrm>
              <a:off x="250920" y="2421000"/>
              <a:ext cx="9144000" cy="31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血栓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缺氧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酸中毒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细胞因子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自由基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050920" y="2517480"/>
              <a:ext cx="457200" cy="28368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73800 h 2836800"/>
                <a:gd name="textAreaBottom" fmla="*/ 2763000 h 283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71640" y="3858120"/>
              <a:ext cx="990720" cy="202320"/>
            </a:xfrm>
            <a:prstGeom prst="rightArrow">
              <a:avLst>
                <a:gd name="adj1" fmla="val 50000"/>
                <a:gd name="adj2" fmla="val 12242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38720" y="3474000"/>
              <a:ext cx="339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毛细血管损伤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出血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43640" y="3760920"/>
              <a:ext cx="990720" cy="202320"/>
            </a:xfrm>
            <a:prstGeom prst="rightArrow">
              <a:avLst>
                <a:gd name="adj1" fmla="val 50000"/>
                <a:gd name="adj2" fmla="val 12242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826920" y="1052640"/>
            <a:ext cx="3961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(4)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微血管损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1397-8D50-4146-A293-E7C6C72B4B3C}" type="slidenum">
              <a:t>30</a:t>
            </a:fld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24000" y="1988640"/>
            <a:ext cx="8353440" cy="45356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●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微血栓主要出现在毛细血管、微静脉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●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各器官表现不尽相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肾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少尿、无尿、血尿及蛋白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胸痛、呼吸困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胃肠道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消化道出血、黄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脑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头痛、抽搐、昏迷、惊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333360"/>
            <a:ext cx="5400360" cy="5508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二）器官功能障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187280" y="1341360"/>
            <a:ext cx="7273800" cy="505440"/>
            <a:chOff x="1187280" y="1341360"/>
            <a:chExt cx="7273800" cy="505440"/>
          </a:xfrm>
        </p:grpSpPr>
        <p:sp>
          <p:nvSpPr>
            <p:cNvPr id="274" name=""/>
            <p:cNvSpPr/>
            <p:nvPr/>
          </p:nvSpPr>
          <p:spPr>
            <a:xfrm>
              <a:off x="1187280" y="1341360"/>
              <a:ext cx="7273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广泛微血栓               组织缺血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52280" y="1449000"/>
              <a:ext cx="1755720" cy="152640"/>
            </a:xfrm>
            <a:prstGeom prst="rightArrow">
              <a:avLst>
                <a:gd name="adj1" fmla="val 50000"/>
                <a:gd name="adj2" fmla="val 287559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D164-90E1-425B-9C56-E784B49D50E6}" type="slidenum">
              <a:t>31</a:t>
            </a:fld>
          </a:p>
        </p:txBody>
      </p:sp>
    </p:spTree>
  </p:cSld>
  <p:transition>
    <p:random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未标题-1 复制" descr=""/>
          <p:cNvPicPr/>
          <p:nvPr/>
        </p:nvPicPr>
        <p:blipFill>
          <a:blip r:embed="rId1"/>
          <a:stretch/>
        </p:blipFill>
        <p:spPr>
          <a:xfrm>
            <a:off x="250920" y="0"/>
            <a:ext cx="4787640" cy="48830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-254520" y="4888080"/>
            <a:ext cx="5621400" cy="1922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肾上腺皮质出血坏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华弗综合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Waterhouse-Friderichsen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5724360" y="1844640"/>
            <a:ext cx="3168720" cy="22525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553000" y="4365720"/>
            <a:ext cx="3591000" cy="1922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体出血坏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席汉综合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heehan’s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2BE8-E99C-49E8-B8B3-27AA0CD128E6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839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en-US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DIC</a:t>
            </a:r>
            <a:r>
              <a:rPr b="1" lang="zh-CN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休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en-US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DIC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和休克常互为因果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形成恶性循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引发休克的主要机制※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95640" y="2060640"/>
            <a:ext cx="1008000" cy="304560"/>
          </a:xfrm>
          <a:prstGeom prst="leftRightArrow">
            <a:avLst>
              <a:gd name="adj1" fmla="val 50000"/>
              <a:gd name="adj2" fmla="val 6588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9640" y="404640"/>
            <a:ext cx="763272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三）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微循环能障碍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------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休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24C7-F6DE-4FF5-8BB8-FC8F90F57AE6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720108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回心血量减少，循环血量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出血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外周血管阻力降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激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组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 F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心泵功能障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冠脉系统微血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心肌缺血缺氧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788A-4F4C-483C-91AC-45F19A5DE506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2268360" y="1341360"/>
            <a:ext cx="5398560" cy="4125600"/>
            <a:chOff x="2268360" y="1341360"/>
            <a:chExt cx="5398560" cy="4125600"/>
          </a:xfrm>
        </p:grpSpPr>
        <p:grpSp>
          <p:nvGrpSpPr>
            <p:cNvPr id="285" name=""/>
            <p:cNvGrpSpPr/>
            <p:nvPr/>
          </p:nvGrpSpPr>
          <p:grpSpPr>
            <a:xfrm>
              <a:off x="2268360" y="1341360"/>
              <a:ext cx="5398560" cy="4125600"/>
              <a:chOff x="2268360" y="1341360"/>
              <a:chExt cx="5398560" cy="4125600"/>
            </a:xfrm>
          </p:grpSpPr>
          <p:sp>
            <p:nvSpPr>
              <p:cNvPr id="286" name=""/>
              <p:cNvSpPr/>
              <p:nvPr/>
            </p:nvSpPr>
            <p:spPr>
              <a:xfrm>
                <a:off x="3135960" y="4519800"/>
                <a:ext cx="3181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     </a:t>
                </a: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</a:rPr>
                  <a:t>DIC</a:t>
                </a:r>
                <a:r>
                  <a:rPr b="1" lang="zh-CN" sz="2800" spc="-1" strike="noStrike">
                    <a:solidFill>
                      <a:srgbClr val="ffff00"/>
                    </a:solidFill>
                    <a:latin typeface="Times New Roman"/>
                  </a:rPr>
                  <a:t>血象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00"/>
                    </a:solidFill>
                    <a:latin typeface="Times New Roman"/>
                  </a:rPr>
                  <a:t>（裂体细胞）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8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68360" y="1341360"/>
                <a:ext cx="5398560" cy="2966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8" name=""/>
            <p:cNvSpPr/>
            <p:nvPr/>
          </p:nvSpPr>
          <p:spPr>
            <a:xfrm flipV="1">
              <a:off x="4293000" y="2500920"/>
              <a:ext cx="385200" cy="211680"/>
            </a:xfrm>
            <a:prstGeom prst="line">
              <a:avLst/>
            </a:prstGeom>
            <a:ln w="63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3810600" y="3489480"/>
              <a:ext cx="385560" cy="21168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6208920" y="2314080"/>
              <a:ext cx="409320" cy="1609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5694120" y="3064680"/>
              <a:ext cx="378360" cy="142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39640" y="404640"/>
            <a:ext cx="309564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四）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贫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23280" y="580536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现为进行性贫血，贫血程度与出血量不成比例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AD35-4ED5-4A26-895F-AEBE40FC237A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50920" y="1484280"/>
            <a:ext cx="84978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微血管病性溶血性贫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．纤维蛋白丝的切割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2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微血流通道受阻，红细胞机械性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．某些病因使红细胞脆性增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580000" y="765000"/>
            <a:ext cx="3564000" cy="294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04D7-2F2C-4CB2-9458-896A557C3D62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ShockwaveFlash1"/>
          <p:cNvGraphicFramePr/>
          <p:nvPr/>
        </p:nvGraphicFramePr>
        <p:xfrm>
          <a:off x="609480" y="380880"/>
          <a:ext cx="822960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29600" cy="54104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6EA2-6FD7-48AF-B76A-5CFCF15AE501}" type="slidenum">
              <a:t>37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724280" y="304920"/>
            <a:ext cx="4191120" cy="54100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0" y="5902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宋体"/>
              </a:rPr>
              <a:t>RBC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悬挂在纤维蛋白索上（扫描电镜，左</a:t>
            </a:r>
            <a:r>
              <a:rPr b="1" lang="zh-CN" sz="24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200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，右</a:t>
            </a:r>
            <a:r>
              <a:rPr b="1" lang="zh-CN" sz="24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520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4038480" cy="541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7716-083F-4E89-B363-0B6DA251B91C}" type="slidenum">
              <a:t>38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556000" y="1538280"/>
            <a:ext cx="482580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高凝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859280" y="249228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00360" y="3193920"/>
            <a:ext cx="468000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消耗性低凝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59280" y="4076640"/>
            <a:ext cx="152280" cy="609840"/>
          </a:xfrm>
          <a:prstGeom prst="downArrow">
            <a:avLst>
              <a:gd name="adj1" fmla="val 50000"/>
              <a:gd name="adj2" fmla="val 10011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0920" y="4848480"/>
            <a:ext cx="605016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继发性纤溶亢进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333360"/>
            <a:ext cx="388944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六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分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B6CE-9D9E-4A94-9755-4F322D4E5ACA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5280" y="404640"/>
            <a:ext cx="4897440" cy="7034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二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发生的原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186920" y="3428640"/>
            <a:ext cx="3962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细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病毒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立克次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其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10600" y="2133720"/>
            <a:ext cx="368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严重感染 （最常见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细菌形态" descr=""/>
          <p:cNvPicPr/>
          <p:nvPr/>
        </p:nvPicPr>
        <p:blipFill>
          <a:blip r:embed="rId1"/>
          <a:stretch/>
        </p:blipFill>
        <p:spPr>
          <a:xfrm>
            <a:off x="4716360" y="2924280"/>
            <a:ext cx="1656000" cy="1504800"/>
          </a:xfrm>
          <a:prstGeom prst="rect">
            <a:avLst/>
          </a:prstGeom>
          <a:ln w="28440">
            <a:solidFill>
              <a:srgbClr val="04fc2d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588000" y="2924280"/>
            <a:ext cx="1513080" cy="1488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200511221643532"/>
          <p:cNvPicPr/>
          <p:nvPr/>
        </p:nvPicPr>
        <p:blipFill>
          <a:blip r:embed="rId3"/>
          <a:stretch/>
        </p:blipFill>
        <p:spPr>
          <a:xfrm>
            <a:off x="4572000" y="4724280"/>
            <a:ext cx="1995480" cy="1571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22"/>
          <p:cNvPicPr/>
          <p:nvPr/>
        </p:nvPicPr>
        <p:blipFill>
          <a:blip r:embed="rId4"/>
          <a:stretch/>
        </p:blipFill>
        <p:spPr>
          <a:xfrm>
            <a:off x="6732720" y="4724280"/>
            <a:ext cx="1714320" cy="15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30E7-CAF1-4E94-A1D2-87F9A943E239}" type="slidenum">
              <a:t>4</a:t>
            </a:fld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" dur="1" fill="hold"/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442960" y="1484280"/>
            <a:ext cx="552600" cy="132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酶、纤维蛋白大量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激活、黏附、聚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24360" y="270828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780960" y="2492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9280" y="549360"/>
            <a:ext cx="367200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一）高凝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52800" y="2997360"/>
            <a:ext cx="335052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纤溶系统尚未启动或刚刚启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4000" y="3933720"/>
            <a:ext cx="8496000" cy="20671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此期进展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各脏器微循环广泛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临床表现以原发疾病表现为主，易漏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C9E5-95AC-487D-A384-8FA827D35ED6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79280" y="549360"/>
            <a:ext cx="518472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二）消耗性低凝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59800" y="2276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因子、血小板消耗减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23240" y="29973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纤溶活性继发增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69360" y="4724280"/>
            <a:ext cx="213156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栓与出血并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36000" y="5516640"/>
            <a:ext cx="583560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进行性减少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&lt;100×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zh-CN" sz="3200" spc="-1" strike="noStrike" baseline="30000">
                <a:solidFill>
                  <a:srgbClr val="ffffff"/>
                </a:solidFill>
                <a:latin typeface="Times New Roman"/>
              </a:rPr>
              <a:t>）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聚集性减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2960" y="3860640"/>
            <a:ext cx="91224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2315-5429-4D91-A5ED-B47BE5710BDA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662840" y="3600360"/>
            <a:ext cx="13158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凝血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76000" y="2060640"/>
            <a:ext cx="145944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FXI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67280" y="3141720"/>
            <a:ext cx="1334880" cy="71280"/>
          </a:xfrm>
          <a:prstGeom prst="rightArrow">
            <a:avLst>
              <a:gd name="adj1" fmla="val 50000"/>
              <a:gd name="adj2" fmla="val 46818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0" y="2565360"/>
            <a:ext cx="68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+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835600" y="2924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溶系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280" y="549360"/>
            <a:ext cx="612144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三）继发性纤溶亢进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77080" y="2852640"/>
            <a:ext cx="11196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t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00000" y="5013360"/>
            <a:ext cx="504036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明显、广泛的出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7D0F-9EE3-45DD-A40E-645C852E1AD3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68360" y="189000"/>
            <a:ext cx="7632720" cy="1130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血浆鱼精蛋白副凝试验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------“3P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试验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Plasma protamin paracoagulation test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22280" y="15238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40320" y="2060640"/>
            <a:ext cx="72936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97480" y="2590920"/>
            <a:ext cx="237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单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98880" y="1523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64680" y="1989000"/>
            <a:ext cx="72936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纤溶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15200" y="2590920"/>
            <a:ext cx="242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81080" y="3124080"/>
            <a:ext cx="0" cy="2286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3124080"/>
            <a:ext cx="0" cy="2286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81080" y="3352680"/>
            <a:ext cx="358164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733920" y="3352680"/>
            <a:ext cx="0" cy="3812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79200" y="3657600"/>
            <a:ext cx="3069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M 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可溶性复合物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733920" y="4191120"/>
            <a:ext cx="0" cy="5331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96800" y="4221000"/>
            <a:ext cx="91224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鱼精蛋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895120" y="4724280"/>
            <a:ext cx="838440" cy="2286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33920" y="4724280"/>
            <a:ext cx="685800" cy="2286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22640" y="4952880"/>
            <a:ext cx="5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45560" y="495288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00600" y="5257800"/>
            <a:ext cx="38088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0836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自我聚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0" y="5257800"/>
            <a:ext cx="38088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6116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絮状沉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81080" y="2057400"/>
            <a:ext cx="0" cy="5335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86400" y="2057400"/>
            <a:ext cx="0" cy="5335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87640" y="5791320"/>
            <a:ext cx="2521080" cy="10688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正常：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： 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E964-5766-4AB7-9DDB-DF88D2355E8D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95280" y="907920"/>
            <a:ext cx="6696000" cy="6786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二聚体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-dimer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检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476360" y="2205000"/>
            <a:ext cx="6093000" cy="1942920"/>
            <a:chOff x="1476360" y="2205000"/>
            <a:chExt cx="6093000" cy="1942920"/>
          </a:xfrm>
        </p:grpSpPr>
        <p:sp>
          <p:nvSpPr>
            <p:cNvPr id="354" name=""/>
            <p:cNvSpPr/>
            <p:nvPr/>
          </p:nvSpPr>
          <p:spPr>
            <a:xfrm>
              <a:off x="2270160" y="220500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凝血酶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76360" y="292392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Fb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81440" y="2938320"/>
              <a:ext cx="83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Fb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66840" y="3211200"/>
              <a:ext cx="151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816280" y="2636640"/>
              <a:ext cx="0" cy="503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02080" y="3211200"/>
              <a:ext cx="151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51520" y="2636640"/>
              <a:ext cx="0" cy="503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471920" y="220500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纤溶酶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808280" y="3716280"/>
              <a:ext cx="2160360" cy="431640"/>
            </a:xfrm>
            <a:prstGeom prst="wedgeRectCallout">
              <a:avLst>
                <a:gd name="adj1" fmla="val 53087"/>
                <a:gd name="adj2" fmla="val -1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纤维蛋白多聚体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13360" y="2923920"/>
              <a:ext cx="16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D-</a:t>
              </a: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二聚体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619280" y="4797360"/>
            <a:ext cx="5040360" cy="1271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浆正常水平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&lt;0.5mg/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： 明显升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CD8E-304F-44BA-B644-96C2C6A5B093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24000" y="2205000"/>
            <a:ext cx="835164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急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61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情迅速恶化，分期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慢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20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机体有一定代偿能力，临床表现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亚急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19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介于急性型与慢性型之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79120" y="1268280"/>
            <a:ext cx="25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病程进展速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0920" y="189000"/>
            <a:ext cx="4392360" cy="703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七  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的分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83FA-5BB1-4C25-850C-EAD906F8803C}" type="slidenum">
              <a:t>45</a:t>
            </a:fld>
          </a:p>
        </p:txBody>
      </p:sp>
    </p:spTree>
  </p:cSld>
  <p:transition>
    <p:random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0" y="2420640"/>
            <a:ext cx="9144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成与消耗基本持平，轻度出血和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失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消耗＞生成，有明显的出血和休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过度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成＞消耗，出血症状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836640"/>
            <a:ext cx="82803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机体代偿状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（凝血因子和血小板生成与消耗的比例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6663-22DB-40C0-8DF2-B1A5A259E602}" type="slidenum">
              <a:t>46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发病部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全身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局部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局部型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只是全身型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局部表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58920" y="2492280"/>
            <a:ext cx="380880" cy="838440"/>
          </a:xfrm>
          <a:custGeom>
            <a:avLst/>
            <a:gdLst>
              <a:gd name="textAreaLeft" fmla="*/ 243360 w 380880"/>
              <a:gd name="textAreaRight" fmla="*/ 381240 w 3808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752D-88C1-497B-A8A1-E5D3648B9531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228240" y="836640"/>
            <a:ext cx="89154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去除病因和诱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维持生命体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对症处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早期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凝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肝素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血小板聚集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潘生丁、阿司匹林）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改善微循环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解除血管痉挛、溶栓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后期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纤溶药物疗法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6-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氨基己酸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替代疗法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输新鲜血浆、浓缩纤维蛋白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    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或血小板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9280" y="189000"/>
            <a:ext cx="396108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八  防治原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0B74-8798-4501-A126-CFBD82670890}" type="slidenum">
              <a:t>48</a:t>
            </a:fld>
          </a:p>
        </p:txBody>
      </p:sp>
    </p:spTree>
  </p:cSld>
  <p:transition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971640" y="836640"/>
            <a:ext cx="752472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复习题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名词：弥散性血管内凝血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发生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分期及各期特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患者出血的特点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管病性溶血性贫血的发生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引起休克的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E725-4116-46E8-8106-71DE7FA12208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260280"/>
            <a:ext cx="3598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恶性肿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3305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26920" y="5013360"/>
            <a:ext cx="734544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●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肿瘤细胞高表达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●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急性早幼粒细胞性白血病最常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DA11-93D5-45DB-8F0A-9A878DBC274B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539640" y="1052640"/>
            <a:ext cx="8139240" cy="1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病例讨论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岁初产妇，足月妊娠分娩，胎儿和胎盘娩出后，阴道仍流血不止。在进行抢救时，初期因针头内凝血影响输液，后来针头部位渗血不止，终因抢救无效而死亡，死后病理解剖诊断为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415D-FA64-4F9D-BEF7-AA3016F4CE36}" type="slidenum">
              <a:t>50</a:t>
            </a:fld>
          </a:p>
        </p:txBody>
      </p:sp>
    </p:spTree>
  </p:cSld>
  <p:transition spd="slow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457200" y="380880"/>
            <a:ext cx="84582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①  前置胎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②  羊水栓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③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根据以上简要病史和病解发现，你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虑患者发生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机制如何？为何出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输液凝血，针刺部位渗血和阴道大流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等临床表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4AFE-709C-4291-A410-04BB1299ACF7}" type="slidenum">
              <a:t>51</a:t>
            </a:fld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404640"/>
            <a:ext cx="4437000" cy="52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妇产科疾病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胎盘早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羊水栓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死胎滞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败血症流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剖宫产手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132000" y="1214280"/>
            <a:ext cx="5472360" cy="4015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EDC5-B043-4B4B-84CD-B9D3D639A447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11280" y="620640"/>
            <a:ext cx="33480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4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组织损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创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烧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大手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骨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蛇咬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43280" y="990720"/>
            <a:ext cx="4500720" cy="380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9DE8-F56C-43DC-A4EE-58EE66A38744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7596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单核巨噬细胞系统功能障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300720" y="1625760"/>
            <a:ext cx="2665440" cy="1803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24000" y="549360"/>
            <a:ext cx="4895640" cy="6422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三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发生的诱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3429000"/>
            <a:ext cx="86756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全身性施瓦茨曼（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Shwartzman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反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给</a:t>
            </a:r>
            <a:r>
              <a:rPr b="1" lang="zh-CN" sz="2800" spc="-1" strike="noStrike">
                <a:solidFill>
                  <a:srgbClr val="ffff00"/>
                </a:solidFill>
                <a:latin typeface="华文细黑"/>
                <a:ea typeface="华文细黑"/>
              </a:rPr>
              <a:t>动物两次注射小剂量内毒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一次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吞噬内毒素，功能被“封闭”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二次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清除凝血因子和内毒素功能障碍，易引起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C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D9A0-EEF2-4E28-BB8C-63094344CBB6}" type="slidenum">
              <a:t>8</a:t>
            </a:fld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042560" y="2997000"/>
            <a:ext cx="69138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坏死肝细胞释放大量组织因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凝血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产生不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解毒功能下降，血管内皮受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单核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吞噬细胞系统功能降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651640" y="0"/>
            <a:ext cx="2952720" cy="2135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189440" y="692280"/>
            <a:ext cx="320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肝功能严重障碍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2207-85B8-4ADF-8A06-CBEFBEC0D98E}" type="slidenum">
              <a:t>9</a:t>
            </a:fld>
          </a:p>
        </p:txBody>
      </p:sp>
    </p:spTree>
  </p:cSld>
  <p:transition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zg</cp:lastModifiedBy>
  <dcterms:modified xsi:type="dcterms:W3CDTF">2014-04-20T04:47:20Z</dcterms:modified>
  <cp:revision>115</cp:revision>
  <dc:subject/>
  <dc:title>PowerPoint Presentation</dc:title>
</cp:coreProperties>
</file>